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9EE-1040-407C-B1A8-558505D9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BAB-56B4-4D68-A119-C35C45D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3E8-911E-4F57-960B-00218AE0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199-8D7B-42E2-9B9C-3E300203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1C4-D415-4EBC-AD1A-C30DFA0C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F54A-B78D-4E96-B015-13F82710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55BD-8D73-4F5A-A75E-D9758C05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C68C-7370-4E2A-A1C4-2DE501B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8064-01C9-47D1-9832-C109D36A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20DE-F0F4-4558-BCCD-C80C2BB6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DEB6-0A9B-4095-A084-49C140F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A92-24E6-4554-A81F-3215E4AE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4C15-E268-49B6-A8D9-0394445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9861-25AC-4B27-BF29-16ACA5A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82A-301C-4ADE-AFB3-C806E793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9F3B-724E-4E93-AE7A-EDAAB06E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3B3F-94D2-4087-AC99-20A213A7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B87-1304-43C1-AA51-6E233F3E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514-77A6-4FFE-A717-40063D94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A52-AAF9-4B65-B504-609CF031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259-8BA1-40D8-8158-A86FA655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E11-0F39-4500-8229-F3E972E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A5E-5767-4518-B596-DFDE9EE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7C0-B348-4FA8-855B-630C0AF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58DB-7CC2-48D5-A3E0-502A9528D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6CAD-89A1-425C-A64E-0BCE456FC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52480" y="3200400"/>
            <a:ext cx="54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spelling Cemete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773360" y="3200400"/>
            <a:ext cx="60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three E’s as in Eeec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861480" y="3276720"/>
            <a:ext cx="71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itles do we underline/ italiciz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15920" y="3168720"/>
            <a:ext cx="49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s, movies, play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104480" y="3124080"/>
            <a:ext cx="69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itles do we use quotations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533520" y="2971800"/>
            <a:ext cx="82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s of works or short works such as short stories, song titles, poem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15200" y="316872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Loan a verb or a nou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505320" y="3352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026720" y="320040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epar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230200" y="32004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rat in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819880" y="320040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a lot or alo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371600" y="3048120"/>
            <a:ext cx="74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sign that means ‘and’ in informal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364920" y="320040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pers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600200" y="3048120"/>
            <a:ext cx="60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female pet is altered, she is _____, NOT spad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18880" y="32004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180080" y="3200400"/>
            <a:ext cx="70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ged is in past tense when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2898360" y="312408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ife is ta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066680" y="2895480"/>
            <a:ext cx="70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parts of speech do we NOT put a color after when a list follow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286000" y="2819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b and pre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676520" y="2819520"/>
            <a:ext cx="589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mark of punctuation follows a salutation in a business le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6576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727800" y="32004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81360" y="3200400"/>
            <a:ext cx="74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prescription, not perscrip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28800" y="304812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’ means “before” and ‘script’ means “to writ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5120" y="3048120"/>
            <a:ext cx="60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(Freshman, Freshmen) class is very sma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3515760" y="3124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h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317960" y="320040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ning of Personn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3365640" y="31240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633320" y="3124080"/>
            <a:ext cx="59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umbers are hyphen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619280" y="312408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enty- one through ninety- n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23120" y="3168720"/>
            <a:ext cx="60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ingle male gradu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515400" y="3124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20960" y="3168720"/>
            <a:ext cx="59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Regardless or Irregardle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407240" y="3200400"/>
            <a:ext cx="63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ingle female gradu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819240" y="31240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600200" y="327672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male and female graduates mix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666960" y="32004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371600" y="3276720"/>
            <a:ext cx="66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attend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2209680" y="3124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ndants scurry like ants at HC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981080" y="3124080"/>
            <a:ext cx="55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‘sophos’ and ‘moros’ mean in Lat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527920" y="31240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se” and “Moron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371600" y="3124080"/>
            <a:ext cx="61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we call the games we play in between clas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288960" y="320040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441600" y="32004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89280" y="3168720"/>
            <a:ext cx="512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Latin name for the school son or the school one graduates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366360" y="3200400"/>
            <a:ext cx="24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ma M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147760" y="312408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Lend a verb or a nou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4019760" y="3200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2133720" y="3048120"/>
            <a:ext cx="457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spelling Surpr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3960" y="3168720"/>
            <a:ext cx="58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two R’s and two S’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2072</cp:lastModifiedBy>
  <dcterms:modified xsi:type="dcterms:W3CDTF">2010-05-18T19:30:38Z</dcterms:modified>
  <cp:revision>19</cp:revision>
  <dc:subject/>
  <dc:title>Jeopardy</dc:title>
</cp:coreProperties>
</file>